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FBF4-491F-4DDB-937C-02281185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2837-834D-4710-9B1F-E7AA2718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BEC8-927A-43F2-873D-00B35C99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0C13-AF5F-4954-8AFE-0D768D15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DDAE-AFB8-41CB-9718-BCC6670A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CB80-0576-4EB0-9DA2-8FB606BD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0969-08A5-4F19-8000-D5D599CA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D619-E94E-4C2D-8DAA-75D00CCA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2DD3-C53B-4FAF-B721-2DA7A61C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B635-E712-4F75-96E7-426050B1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334F-43EF-4995-92FC-804C9531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7DB4-874B-4D96-B3BA-21A71193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28EB-0F6F-4E47-88ED-EB447741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5E72-6D31-4EE4-931A-3FF98EE8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BEB8-107B-461B-A621-D5F46A45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B9C0-0E8A-4D33-9C7E-F5343EAB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0702-3219-440B-BAA1-5D0B3DCC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E636-61F6-42CD-BE20-3DE12F26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109C-2332-4A28-A48B-24C5EEC2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7766-E2F8-4EAB-9224-441C6047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E582-8251-4FFB-924B-463045CC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DA1F-5966-4E72-9AF0-AAC58882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CAF1-7447-4773-8984-B81AA52B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034A-DA81-4414-9233-355DF7F4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921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327636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038B-AD8D-49A4-9EBD-10BE667F8728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048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38BF-CC70-4FF5-970E-27635F5A36A4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Badminto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Rul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81280" y="3886200"/>
            <a:ext cx="51818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pted for Mr. Stanton’s Westmoor High School Physical Education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ourt Dimension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ice l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981080" y="2819520"/>
            <a:ext cx="533412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Rule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touching of 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score points only off of own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 must land diagonal in opponents service bo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cket must contact birdie underneath rib cage during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mes up to 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Rules Cont…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hit per s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shuttlecock hits net in live play and drops over to opponents side it is l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Birdie hits any part of body (including clothing) play is ov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serves per s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ice switches after losing 2 p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6:46:33Z</dcterms:created>
  <dc:creator>spencer stanton</dc:creator>
  <dc:description/>
  <dc:language>en-US</dc:language>
  <cp:lastModifiedBy>spencer stanton</cp:lastModifiedBy>
  <dcterms:modified xsi:type="dcterms:W3CDTF">2011-05-14T18:50:05Z</dcterms:modified>
  <cp:revision>11</cp:revision>
  <dc:subject/>
  <dc:title>Badminton Rules</dc:title>
</cp:coreProperties>
</file>